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6E8-C2B4-4EB7-BD6B-C8BCCED3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0A9-F35E-40CE-9834-3E5494A4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394-0540-4D7D-9A34-78BAA421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73D-D6DF-4D3E-B5FF-25E3E5EA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746-603A-4582-9A7D-D9A615DD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BF4-4586-49DB-91F5-532DE404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7470-E70B-4623-B484-167321A1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3111-7744-470C-A3AF-43BF219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1DF4-AE3B-42ED-8ABA-3F85018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1F5-BFCD-446E-BFF1-A2360876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01FE-502A-4698-AF69-D38167DE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7C1-A2D0-4B81-A0E6-71D73C0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80F-D5F2-4CD9-8E24-DC5E79E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9A2-2B73-4C0E-B214-3F64F87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E891-7974-4D85-B23C-C843A0C2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2DE9-CCF0-48CA-8B5D-9FAAC334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4425-462B-4B66-A8D0-F6C850C1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FAF-F605-4980-993D-2F061FE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F5A-418B-4960-B5C9-D12C149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5D7-CCF4-40C2-A726-DE8ED1F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FD9-26CB-4539-8BB8-63C5801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AD0-D481-4026-BAF0-047B946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06D-29F8-4900-99B0-5AEEB40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D3B-0692-4F18-BC2A-9EA8C5B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18E-F038-49BC-98DC-BF56CE5DC0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81C8-6AA2-4819-9984-960447CFBC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sers.bigpond.net.au/mechtoys/plane.html" TargetMode="External"/><Relationship Id="rId3" Type="http://schemas.openxmlformats.org/officeDocument/2006/relationships/hyperlink" Target="http://users.bigpond.net.au/mechtoys/gifs/origami/plane.jpg&amp;imgrefurl=http:/users.bigpond.net.au/mechtoys/plane.html&amp;h=151&amp;w=195&amp;sz=5&amp;tbnid=k46AdDTu6dvNzM:&amp;tbnh=75&amp;tbnw=98&amp;hl=en&amp;start=9&amp;prev=/images%3Fq%3Dmake%2Bpaper%2Bairplane%26svnum%3D10%26hl%3Den%26lr%3D%26safe%3Dactive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2362320" y="2362320"/>
            <a:ext cx="1981440" cy="163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liding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appens when an aircraft has no engin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20995200">
            <a:off x="-2209320" y="-457200"/>
            <a:ext cx="220968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20529600">
            <a:off x="8534520" y="4140000"/>
            <a:ext cx="4583160" cy="271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21965E-006 L 1.25 0.56602 E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4.85549E-006 L -1.55052 -0.17942 E">
                                      <p:cBhvr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5833 -0.00809 L 1.475 -0.03029 E">
                                      <p:cBhvr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lid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iding aircraft are affected by the four forces of fl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rces work together and against each other to make a glider soar, for a whi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lid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 tries to pull a glider down, while lift pushes it u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ust pushes it forward, while drag slows a glider dow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4749840" cy="3562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lid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a glider has no engine, eventually drag and gravity take over, and the glider will come dow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4322880" cy="329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29200" y="5638680"/>
            <a:ext cx="10065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rm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lid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iders can stay in the air longer if they soar into an updraf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rafts are areas of warm air that are moving u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133720" y="533520"/>
            <a:ext cx="213372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5867280" y="4648320"/>
            <a:ext cx="0" cy="83808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4495320"/>
            <a:ext cx="0" cy="83844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05520" y="4800600"/>
            <a:ext cx="0" cy="83808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172200" y="4572000"/>
            <a:ext cx="0" cy="83808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876920" y="4648320"/>
            <a:ext cx="0" cy="83808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798 C 0.07361 0.09595 0.14688 0.22011 0.2441 0.29896 C 0.34115 0.3778 0.46789 0.47167 0.58264 0.44439 C 0.6974 0.41711 0.81476 0.20901 0.93282 0.13549 C 1.0507 0.06196 1.17101 0.0326 1.29167 0.00323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imple glid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going to try with a simple airplane.  Fold carefully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olding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 basic paper airpl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3200400"/>
            <a:ext cx="3657600" cy="2832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7:29:40Z</dcterms:created>
  <dc:creator>Teacher</dc:creator>
  <dc:description/>
  <cp:keywords/>
  <dc:language>en-US</dc:language>
  <cp:lastModifiedBy>Teacher</cp:lastModifiedBy>
  <dcterms:modified xsi:type="dcterms:W3CDTF">2006-05-26T10:51:25Z</dcterms:modified>
  <cp:revision>10</cp:revision>
  <dc:subject/>
  <dc:title>Gli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